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9425-C9CE-487C-9E26-80CA57C60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69C5-7901-4935-8BFB-6A40B486D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26C-7321-4C85-876E-1C365F807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D201-1EAD-4BD9-A907-14E05DC79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4F0C-FA0E-4C23-8263-252969A2A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6B38-BD10-4DDE-87EE-21344F471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E905-E158-49A6-B398-C66827C2F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961F-1BFC-4D10-A0AD-24C63D85B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0E60-3F9A-4C6A-8F1B-6612DB83F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F3A5-8A7F-4267-95DF-13E3BD5AA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5C59-76E9-4E57-ABDB-E4FB3ED4B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EF42-1E9D-41BE-B0FA-3DB636F82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163E-1345-451A-AA37-5746FEDE5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CB5-4984-4AED-B0BB-7E70ED61F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CF0-7886-4102-A802-3D12BD34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DA5-3CA2-4DC2-BCE4-F205B989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E38-0681-407B-92DB-83F061E2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ECB-F179-459C-BB43-B1A1B421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D35C-64A3-4B7E-863B-8AE4FB86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9467-4BC8-460F-9FC5-564A53D7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87B7-A703-4346-8692-C50086E7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14F5-8B82-49A3-9746-B508214B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095F-6906-467B-B5B5-48ED8084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7C2-2606-449D-8ADC-E4B88C5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49AF-06FC-4DCC-B2BB-E0AFE78D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58E-F6BD-4CBD-BED9-478F504A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C0F-BDB9-416A-AEF6-D635D60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2182-0CC7-4A03-A7B9-2303566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99A8-79F3-4E05-815B-146B59DF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37BC-B032-4D0A-AC7E-3287C206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6896-914B-48E0-A5C5-49B17137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D1A76-CE93-4225-9036-BFAFAE3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02F09-9C54-4D6E-B982-29CC82F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D77DC-C499-43EB-B945-AC2A11BA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3E04E-231B-4D45-B635-228769F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408A4-A4FC-4038-AFFC-A00AE4BF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CB7-65A8-4516-B402-31CA1FA2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92996-B285-4010-8299-E9E1CCA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CE2F6-E49E-4667-BEA2-D3EE8946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A9DB2-40B8-49A7-BB04-9E4CD849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61348-BE9B-4B34-830D-23A4F296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717D1-0C22-48BF-9FA3-C97DA0A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E71E9-715D-4D7A-8B4E-D64BD63F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96695-4B4E-4291-AC12-CF512701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6EA9-721E-4003-97FF-6660C7AF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4622-B856-4E5F-959D-177C8A5B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706B-6235-42F3-890C-3FC6EBE0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1CC-832D-4F50-8EE3-AF9638CA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E872-567E-405C-BDD3-2AAC0CE1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040BA-E110-49A7-9B7B-8AFDD8A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3EB44-177D-4F5C-B048-CCCC52D3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3312-A467-4A25-AAB3-5F96051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BC6F-775C-450E-9B52-7111F84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B480-7AB5-45F8-9C0E-A332330F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441A-4861-4EA7-B391-6BFDAE8F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AA04-F12A-4ACA-A70C-37FD9F7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0526-4B3E-4A62-A0AF-07C353A6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9F18A-20BE-4FF6-97E2-F992ACB9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F67-0281-42F9-AE40-CE8CACFE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ACC50-6F30-409E-9446-9D60A3D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D7EB4-F7C4-42A1-89F9-2AABEE36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EFC8A-24E7-4CCE-AFE5-D3128C0B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309F5-BEDC-4DCE-A967-E3944FFF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8B2A2-8D3E-44ED-AFEB-0B4A855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2CDA3-8740-45DD-8547-FD10F01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20DBD-588E-44AB-8BB5-E6FADD34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F0BD7-F314-44A3-9682-76E2781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67DA6-32D9-470E-B0C4-93C512A0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5B45F-E1B5-4A62-968A-546CDE72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FBC-0537-409E-A216-412F198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092A1-0D79-4EB2-9950-5D6C6434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1216D-469C-4ECB-9616-FDC128AF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5CDBE-1272-4A4F-BFFB-93C7251B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961F6-784A-44A1-A9CE-2D91A4F0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2E535-595E-40CC-B3E2-082F0A2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DFE05-E9FD-4600-811A-F0D3BEF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33BDD-F940-4860-AA11-AFC5C59A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915B2-1487-4E6E-A39C-AEBAF5AF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38545-82FC-41FD-8727-C1D3D96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F0B9F-A0D7-4A34-8362-A14C761D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15D-7067-4617-ABC1-49BDC2F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308D6-0440-4EB4-9F3C-F23B9280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243A5-39D2-4ED7-9544-BAD1779F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9810E-96DD-41F7-B5B1-CE55C911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E0F19-E739-4C1E-8CBF-712098E9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A4204-BDEB-40B5-ACC7-492BFD6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091D6-D7A3-4C60-88E6-61D2911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221D6-35EE-4ADA-AA31-0B53012A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98B85-A3D1-437B-8A80-34276DDF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BB470-3510-4315-9D19-1AFC7100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F16C3-D70A-4491-BEE0-02ED6A84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681-0CAE-4FBC-A0CB-D352FFE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10CF3-482E-4BBD-ACC4-217A796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69656-5A9B-426B-A7D2-D918D27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824A0-055F-45BF-9186-D5B8C08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82EB1-8DD8-4A19-99CE-EB57ABF9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74690-8973-4EA5-B2C2-D1857054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871-E136-47B7-A448-29E1382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636E-C51E-4179-AB2B-F51B442871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92D-70CB-4D35-8AE9-E9C451A7B2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D768-7266-4F6A-BBF3-B67ADCB4A2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E85-0815-497E-99C9-91EA3FC8FD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3481-6C47-4AB8-B991-EEDFCCD9A50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D035-7959-4C7A-854B-1CA5A40936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75C9-B32F-4CB4-94B3-4C1943D8E9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HEADING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all group members’ na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0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AVORITE SCEN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vorite passage/scene- choose your favorite quotation or passage from the book .  Explain what is happening and why this is your favorite scene/passage (include page number and pictur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MEMBER NEEDS A DIFFERENT SCENE TO EXPLAIN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1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TEMENT OF VALU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ement of value-State what you gained/learned/discovered of personal value by reading this book.  Include the theme in this explan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MEMBER NEEDS THEIR OWN ANSWER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2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HOLDEN’S SONG OR BOOK REVIEW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94920"/>
            <a:ext cx="8153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lden’s S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py Lyrics that would represent Holden and who he is (try to add the song to the powerpoint or bring in the C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nation of how tone of music and lyrics parallel and support Holden’s thoughts, moods, choices and the aftereffects and consequences of those cho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review- write a 1 paragraph review as if you were a literary critic.  Would you recommend this book to others to read? 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sent it as a literary crit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INAL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YOUR CHO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ose how you would like to end your presentation (not on slid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ST BE A CREATIVE END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2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UTHOR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Explain who J.D Salinger is (at least 3 facts about him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pictur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LIDE 3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vocabulary- select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vocabulary words from the book.  Copy the sentence and page number where they appear.  Provide the definition as well as word orig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4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UMMARY &amp; TITLE EXPLANATION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a brief summary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itl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5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M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hem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6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IGURATIVE LANGUAG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gurative language- find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xamples of figurative language (ex: imagery, personification, symbolism, etc).  Explain the figurative language and why the author uses th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member page #s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7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ARACTERIZATION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one of the characters from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cribe them physically and mentally, and write how they affect and/or add meaning to the story or to Holden’s life.  Pick a quote from the story which describes th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 and a pictur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8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G POOP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Holden’s Dog Poop (explain what it is and how he handles it- if he handles i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ck one quote from the story to represent his dog po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9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YMBOLISM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what two of the following symbols represent (red hat, Pency Prep, Central Park, the ducks, Allie’s glove, unmade phone calls, movies, other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THIS IS YOUR INTERPRETATION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45:55Z</dcterms:created>
  <dc:creator>nvasquez</dc:creator>
  <dc:description/>
  <dc:language>en-US</dc:language>
  <cp:lastModifiedBy>Nvasquez</cp:lastModifiedBy>
  <dcterms:modified xsi:type="dcterms:W3CDTF">2010-09-29T18:21:32Z</dcterms:modified>
  <cp:revision>13</cp:revision>
  <dc:subject/>
  <dc:title>SLIDE 1 Author</dc:title>
</cp:coreProperties>
</file>